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A860-4975-4944-91F2-6B28EB16E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404A-16BC-4A76-A317-CF0F981B4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58F6-56E8-49C3-935B-8E3A4E78D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F420-A483-4B92-92EE-8725CB812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4233F-7470-4D84-B85B-695460ED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13525-BED9-4D5A-83F4-E7287E1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79977-D3D3-47F5-AFDE-071997F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15C86-1B46-4E77-AF1F-2A3B3DC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708B2-21D9-4880-B97D-535C030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20CE-36BB-4820-9197-3D7FC978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D4D86-11BD-45DC-970A-B9A5F78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5923-0EEE-4BC6-AFFC-2D86319EF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C90B0-8E0A-4877-861C-F5CA5A3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37D1A-844C-4235-B673-C684D7E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8C0F-5324-46F3-87F8-BC997CD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FE4FE-897A-46EB-BA11-FF04A2D6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EDE0D-39E3-408F-883D-F6EF8A2F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26B3-7999-4FEE-B85A-E418AFD01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6896-2A69-4BE3-93C8-0B3C00A1C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EEA8-2747-46FE-89B2-9AC6F829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96CB-79E2-44F0-9DB9-DB960E512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E5DE-4662-49A2-81A9-E7090CD7F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6D55-B02E-4176-8EA3-CD9C9AB5C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1F3D-F88E-493B-B73F-A7DF882BC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502240" y="6629040"/>
            <a:ext cx="298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Jacques Bouchez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4520" y="16668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-330120" y="-5144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C24-B6C1-4FB7-8945-4D662629E4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1970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2768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4560" y="283212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857680"/>
            <a:ext cx="32040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9000" y="285768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78136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4228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240" y="1574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5360" y="1625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790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84600" y="15494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5746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65096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1200" y="181620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0800" y="22352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45240" y="1346040"/>
            <a:ext cx="6654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adioactive Beam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uclear and Neutrino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es Arcs 17-22 Mars 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55560" y="3495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422E-AA7C-430F-AC86-A3F47B2786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5360" y="239760"/>
            <a:ext cx="8804520" cy="592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57720" y="5776920"/>
            <a:ext cx="26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E : 250 MeV 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1D3D-C865-408B-90F4-A1B6D2B94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2563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r detector in second ph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852" t="10234" r="10191" b="12423"/>
          <a:stretch/>
        </p:blipFill>
        <p:spPr>
          <a:xfrm>
            <a:off x="1951200" y="1341360"/>
            <a:ext cx="7192800" cy="465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900000" y="3141720"/>
          <a:ext cx="95580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141720"/>
                    <a:ext cx="9558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21337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Phase-I: Super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256536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22.5kt (50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56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ＭＳ Ｐゴシック"/>
              </a:rPr>
              <a:t>Phase-II: 1,000 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6240" y="25560"/>
            <a:ext cx="59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 to the size of large underground Water Ch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ctors will be given by the difficulties of excav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x width is about 50-60 meters.=&gt; increase high&amp;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5F4D-55BF-420E-9E78-C2AE5B087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 Background Rej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1504800"/>
            <a:ext cx="4219920" cy="459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4572000" y="1501920"/>
            <a:ext cx="4219560" cy="459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15920" y="950760"/>
            <a:ext cx="663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/mu separation directly related to granularity of co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mit is around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u decay in flight)  SKII coverage OKOK,  less mayb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B7F8-D993-4F9E-B215-30A6EBBB98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A B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6440" y="1033560"/>
            <a:ext cx="659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idea by P. Zucchel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++, store, accelerate (100 GeV/u)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2362320"/>
            <a:ext cx="33962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=3.5078 MeV T/2  = 0.8067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anti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4240" y="37368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41440" y="4095720"/>
                <a:ext cx="35481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259240" y="440676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720" y="4876920"/>
            <a:ext cx="823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cillation signal: appearance of low energy mu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opposite charge neutrinos=&gt; no need for magnetic 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tle matter effects at these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water Cerenkov excellent for this too, same as for Superb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seems feasible; but cost unknown so far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ritical: duty cycle.                                                 A nice *** idea to be followed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330280"/>
            <a:ext cx="336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+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552760"/>
            <a:ext cx="152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4CF6-DE3B-4788-BE4D-79C98665E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86080" y="171360"/>
            <a:ext cx="4003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a Bea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. Zucchel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6280" y="1398600"/>
          <a:ext cx="6399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398600"/>
                    <a:ext cx="6399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59600" y="587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 Lindroos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B0B0-D08F-4CFC-A1E7-EB43653572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82720" y="2826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ation of beta beam with low energy supe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785880"/>
            <a:ext cx="601524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que to CER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few 100 GeV accelerator (PS + SPS will do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rience in radioactive beams at ISOL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y unknowns: what is the duty factor that can be achieved? (needs &lt;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s CP and T violation te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0180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468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1400" y="438480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3718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200" y="579276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an this work????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920880"/>
            <a:ext cx="2329200" cy="253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128520" y="3470400"/>
            <a:ext cx="2363760" cy="25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3D12-49E0-4356-8EFC-1F73BFCF49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4960" y="509760"/>
            <a:ext cx="8637840" cy="6013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3160" y="0"/>
            <a:ext cx="81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ation of Beta beam and superbeam is in the same ballpark of performance as neutrino factory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ewrare of systematics for low Energy neutrino events, though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2800" y="631044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Times New Roman"/>
              </a:rPr>
              <a:t>M.Mezzetto, CERN workshop NNN02, 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1400" y="3122640"/>
            <a:ext cx="1425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lowest LMA.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7B05-D3EB-423B-8882-F94E8AE17B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23640" y="16812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OUTCOME OF THE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8040" y="866880"/>
            <a:ext cx="709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New ideas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for the beta bea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Pulsed ECR source for easier bunch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Ne18 production multilplied by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Simultaneous operation with Ne18 and He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Importance of low energy beta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160" y="3381480"/>
            <a:ext cx="69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Beta beams studies to be incorporated 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additional work package of EUR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Driver compatibility needs mor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53784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An interdisciplinary community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emerged around the beta beam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C511-E4E6-4150-B1FE-4CBD1D864B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9880" y="4303800"/>
            <a:ext cx="6272280" cy="1798920"/>
          </a:xfrm>
          <a:prstGeom prst="rect">
            <a:avLst/>
          </a:prstGeom>
          <a:solidFill>
            <a:srgbClr val="ffff99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0720" y="976320"/>
            <a:ext cx="7347240" cy="2012040"/>
          </a:xfrm>
          <a:prstGeom prst="rect">
            <a:avLst/>
          </a:prstGeom>
          <a:solidFill>
            <a:srgbClr val="ffcccc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 (superbeam/neutrino fa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280" y="4938840"/>
            <a:ext cx="156744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isol production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rare ions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0000" y="4414680"/>
            <a:ext cx="3547080" cy="307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betabeam acceleration to 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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(CER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3320" y="139536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4 MW target s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1382760"/>
            <a:ext cx="1657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llection,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3320" y="2513160"/>
            <a:ext cx="14796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o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2360520"/>
            <a:ext cx="245736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uon acceleration and stor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6600" y="2475000"/>
            <a:ext cx="2457360" cy="67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 proton/H</a:t>
            </a:r>
            <a:r>
              <a:rPr b="1" lang="fr-CH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dri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clear-synergy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7800" y="3451320"/>
            <a:ext cx="106920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A : 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73800" y="3631680"/>
            <a:ext cx="139680" cy="660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124080"/>
            <a:ext cx="533160" cy="3430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23880" y="3098880"/>
            <a:ext cx="12960" cy="13078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53920" y="3962520"/>
            <a:ext cx="1969920" cy="307080"/>
          </a:xfrm>
          <a:prstGeom prst="rect">
            <a:avLst/>
          </a:prstGeom>
          <a:solidFill>
            <a:srgbClr val="ccffcc"/>
          </a:solidFill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Large cavern and 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3625920"/>
            <a:ext cx="533160" cy="342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600" y="164952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ton drive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86080" y="5400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Design studies (preliminary though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36760" y="4884840"/>
            <a:ext cx="9687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Driver  </a:t>
            </a:r>
            <a:r>
              <a:rPr b="1" lang="fr-CH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6120" y="5608800"/>
            <a:ext cx="14227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ost-accel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360" y="5037120"/>
            <a:ext cx="14605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ass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3240" y="5634000"/>
            <a:ext cx="1162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5 MW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7120" y="5672160"/>
            <a:ext cx="21618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Scientific instr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4A8A-0D85-4307-8661-59BD4A0D2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6840" y="1434960"/>
            <a:ext cx="355320" cy="203220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3492360"/>
            <a:ext cx="80899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26360" y="1460520"/>
            <a:ext cx="355320" cy="203184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149640"/>
            <a:ext cx="3733920" cy="342720"/>
          </a:xfrm>
          <a:prstGeom prst="rect">
            <a:avLst/>
          </a:prstGeom>
          <a:solidFill>
            <a:srgbClr val="ffcc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8440" y="255096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s accelerated to 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spallation sourc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3360" y="646200"/>
            <a:ext cx="101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NuF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7600" y="3797280"/>
            <a:ext cx="48132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0920" y="38466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87320" y="672840"/>
            <a:ext cx="0" cy="28191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320" y="121752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280" y="140976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280" y="313704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8640" y="28558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7880" y="4532400"/>
            <a:ext cx="34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total power at 2.2 GeV 4 MW X 2 = 8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9040" y="3137040"/>
            <a:ext cx="88920" cy="355320"/>
          </a:xfrm>
          <a:prstGeom prst="rect">
            <a:avLst/>
          </a:prstGeom>
          <a:solidFill>
            <a:srgbClr val="99ff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2240" y="2624040"/>
            <a:ext cx="7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1240" y="2882880"/>
            <a:ext cx="6336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99D3-08AB-4DA4-9152-C0ADCC0C8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9720" y="149400"/>
            <a:ext cx="49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Aim of the worksho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480" y="118440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Bring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uclear physicists (EURISOL communit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eutrino physicists (interested in superbeams 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beta beams to study neutrino mix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and machine scient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To determine the possible synergies between their respe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and hopefully propose coordinated design studies to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F90E-A4B0-487C-B8B2-350A79F46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520" y="87480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posal by A.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920" y="1941480"/>
            <a:ext cx="1041840" cy="307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080" y="3224160"/>
            <a:ext cx="979200" cy="307080"/>
          </a:xfrm>
          <a:prstGeom prst="rect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320" y="1471680"/>
            <a:ext cx="81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a litle group of people goes to brussels to talk to Brussels ans ask if the B-typ synergy is acceptable or n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6080" y="2347920"/>
            <a:ext cx="2105640" cy="307080"/>
          </a:xfrm>
          <a:prstGeom prst="rect">
            <a:avLst/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 normal working p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2520" y="3645000"/>
            <a:ext cx="236916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 normal working pack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8440" y="2716200"/>
            <a:ext cx="576612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+1 Looks into production and post-aceleration of beta beam up to g=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95920" y="4100400"/>
            <a:ext cx="500436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+1 looks into the synergy of SPL with the nuclear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81E5-D0E0-44D0-838B-C915475AD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beam &amp;  Beta Beam  cost estimates (NUFACT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1371600"/>
          <a:ext cx="86868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27F4-2F86-4A94-9FA9-F434C9BE285C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268280"/>
            <a:ext cx="8991360" cy="500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440" y="187200"/>
            <a:ext cx="42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EXOTIC NUCL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CB62-70A0-4174-BF01-3D86FC67D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4600" y="0"/>
            <a:ext cx="8794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00"/>
                </a:solidFill>
                <a:latin typeface="Times New Roman"/>
              </a:rPr>
              <a:t>EURIS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970E-F320-4179-809C-86BBE52B2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07880" y="34308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utrino mixing matrix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angles and a phas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8320" y="5051520"/>
            <a:ext cx="4562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 or poorly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after approved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,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2600" y="735120"/>
            <a:ext cx="517500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64000" y="26780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1000" y="12574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1000" y="214632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1000" y="224784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8760" y="123192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0" y="0"/>
                </a:moveTo>
                <a:lnTo>
                  <a:pt x="1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8760" y="209556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4720" y="144288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71040" y="203976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42292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1000" y="335268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1000" y="347976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7320" y="200484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4720" y="181440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9763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5480" y="32367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22880" y="30337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1040" y="389736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" y="3981600"/>
            <a:ext cx="5186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tmospheric) = 4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olar) = 3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hooz) &lt; 1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4314960" cy="180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94240" y="57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8960" y="328464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1040" y="383076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96160" y="3467160"/>
            <a:ext cx="1440" cy="749160"/>
          </a:xfrm>
          <a:custGeom>
            <a:avLst/>
            <a:gdLst/>
            <a:ahLst/>
            <a:rect l="l" t="t" r="r" b="b"/>
            <a:pathLst>
              <a:path w="1" h="472">
                <a:moveTo>
                  <a:pt x="0" y="0"/>
                </a:moveTo>
                <a:lnTo>
                  <a:pt x="0" y="4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6160" y="3301920"/>
            <a:ext cx="1440" cy="1778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1" y="1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1A2-DA3F-480D-B99F-BFE5E58C0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374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39080" y="3949560"/>
            <a:ext cx="196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ff6600"/>
                </a:solidFill>
                <a:latin typeface="Times New Roman"/>
              </a:rPr>
              <a:t>C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181480" y="4470480"/>
            <a:ext cx="3530880" cy="1440"/>
          </a:xfrm>
          <a:custGeom>
            <a:avLst/>
            <a:gdLst/>
            <a:ahLst/>
            <a:rect l="l" t="t" r="r" b="b"/>
            <a:pathLst>
              <a:path w="2224" h="1">
                <a:moveTo>
                  <a:pt x="0" y="0"/>
                </a:moveTo>
                <a:lnTo>
                  <a:pt x="2224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080" y="4467240"/>
            <a:ext cx="27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</a:t>
            </a:r>
            <a:r>
              <a:rPr b="1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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olar ter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9440" y="4008600"/>
            <a:ext cx="35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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/4E)   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240" y="5100480"/>
            <a:ext cx="89604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large valu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LMA) but *not* large si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APPEARANCE 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ime reversal symmetric (reactors or sun are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1800" spc="-1" strike="noStrike">
                <a:solidFill>
                  <a:srgbClr val="ff031e"/>
                </a:solidFill>
                <a:latin typeface="Times New Roman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30%) for suppressed channel (one small angle vs two lar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wavelength at which ‘solar’ (S)= ‘atmospheric’ (A) and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ymmetry is opposite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ff99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840" y="4483080"/>
            <a:ext cx="3073320" cy="1440"/>
          </a:xfrm>
          <a:custGeom>
            <a:avLst/>
            <a:gdLst/>
            <a:ahLst/>
            <a:rect l="l" t="t" r="r" b="b"/>
            <a:pathLst>
              <a:path w="1936" h="1">
                <a:moveTo>
                  <a:pt x="0" y="0"/>
                </a:moveTo>
                <a:lnTo>
                  <a:pt x="193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8240" y="3879720"/>
            <a:ext cx="2788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5160" y="4514760"/>
            <a:ext cx="2935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044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472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416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8288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1280" y="773280"/>
            <a:ext cx="222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89000" y="-165240"/>
            <a:ext cx="9434520" cy="42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’ (S)  --  ‘Atmospheric’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1727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7398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C6B6-9594-4747-AAB9-EC8CD2409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- Neutrino Factory -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N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4280" y="851040"/>
            <a:ext cx="77724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41880" y="4440240"/>
            <a:ext cx="160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417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33680" y="4775040"/>
            <a:ext cx="787320" cy="36864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4863960"/>
            <a:ext cx="520920" cy="45720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46280" y="5332320"/>
            <a:ext cx="947520" cy="58140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240" y="5202360"/>
            <a:ext cx="2492640" cy="9543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cillat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 giving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SIGN MU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13516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8120" y="2903400"/>
            <a:ext cx="28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=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9640" y="5138640"/>
            <a:ext cx="1606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1160" y="4224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FCAB-230E-444C-81D1-132554F8B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UPERBeam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7000" y="1459080"/>
            <a:ext cx="2118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0 Me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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contamination from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(no K at 2 GeV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078520"/>
            <a:ext cx="5959440" cy="1129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large underground water Cerenkov (400 kt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O/HyperK is best 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so : proton decay search, supernovae events solar and atmospheric neutr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3480" y="11268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sible step 0: Neutrino SUPER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360" y="425304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éjus underground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3672-A915-4901-A7FA-908016269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: SPL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j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688000" cy="540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8579000">
            <a:off x="542880" y="2635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e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0600" y="5873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2997360"/>
            <a:ext cx="1368720" cy="3240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4000200">
            <a:off x="1355400" y="428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13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36960" y="1125360"/>
            <a:ext cx="4738680" cy="299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4" name=""/>
          <p:cNvSpPr/>
          <p:nvPr/>
        </p:nvSpPr>
        <p:spPr>
          <a:xfrm flipH="1">
            <a:off x="1547640" y="1106640"/>
            <a:ext cx="232416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068640"/>
            <a:ext cx="231624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4400" y="5661000"/>
            <a:ext cx="162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9560" y="1122480"/>
            <a:ext cx="1334520" cy="58140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95000" y="4195800"/>
            <a:ext cx="3727080" cy="1313640"/>
          </a:xfrm>
          <a:prstGeom prst="rect">
            <a:avLst/>
          </a:prstGeom>
          <a:solidFill>
            <a:srgbClr val="ccff33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 @ 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GeV, 50Hz, 2.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u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under R&amp;D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6D5F-8BD0-45B2-AC5B-F853DACBE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7:30:21Z</dcterms:created>
  <dc:creator>Alain Blondel</dc:creator>
  <dc:description/>
  <dc:language>en-US</dc:language>
  <cp:lastModifiedBy>bdl</cp:lastModifiedBy>
  <cp:lastPrinted>2001-11-08T10:22:42Z</cp:lastPrinted>
  <dcterms:modified xsi:type="dcterms:W3CDTF">2003-03-22T00:18:47Z</dcterms:modified>
  <cp:revision>152</cp:revision>
  <dc:subject/>
  <dc:title>Neutrino Physics</dc:title>
</cp:coreProperties>
</file>